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5C8-02A2-4845-A3B1-030D7F95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1A5-408B-4EC8-A3B8-894A1D5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66A-9356-4181-824F-80550E8F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AEC-2A7D-484D-B1AB-B17D253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DD4-6516-4654-82E8-B14D1AE1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4BA-86EC-492D-8938-262EBFC6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E2A-A4F9-41EC-BDED-6BC5A13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103-5CB3-4C09-AFD6-26E52484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4B1-12F3-4870-A3FE-5F229A0D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888-1A99-490E-B5BF-BD3CF22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C1E-C9E8-48DF-AFB2-F97A312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EB1-E0D6-4F5F-B0C2-9238E96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754-F5F0-44E1-8885-808BA148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7 V srdci nádej, 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a v zrak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nádej, túžba v zra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mnej noci sveta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asiteľa na obla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aká viery smelej vzl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om bôli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ej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neho zrak upie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ti cestu tŕním klies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ním í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 nevá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pusť márne sveta túžb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mu veriť neprestaň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 nemu vstúp do vernej služb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zmi smelo Ducha zbra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ho láskou vyzbroj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nad sebou zvíťaz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ilou viery napln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priateľa poraz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er len Pánu Ježiš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ťa verne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ebesiach on domov no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teba už hot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jav mu všetky svoje pri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a svojho každý 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a všetky požeh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emu vrúcnu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u vzd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32:53Z</dcterms:modified>
  <cp:revision>22</cp:revision>
  <dc:subject/>
  <dc:title>Je veľký náš Pán, on slávy je Kráľ Nech do všetkých strán  spev vrúcnych znie chvál.</dc:title>
</cp:coreProperties>
</file>